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3A8-47A0-4443-B4E7-60D527A0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0BA-C492-4845-AEB7-7EAF2C89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3A1-5043-4A73-8454-EB2106C5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A99-C668-4FC2-9A30-D11DF46D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7B49-A521-4CBB-BB09-389B160F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6982-A1CB-4983-9AAF-492FE979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4CAC-D3B0-41BD-AE5B-D281E2D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8391-DB92-442B-8140-4E81F71B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E84-11A6-49C6-8236-E74B3BB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A146-852B-4157-A28B-9E6BBE61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CB4-0524-4FC3-8243-61875EE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AA8-2C18-4FE9-BBB8-5BCDB113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7A3B-7835-4CF3-9D6A-3A96C0C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A497-E0AC-49A2-8ABB-5B403389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0106-9EC6-41E5-8D88-FF69E6CC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6A99-F59C-46DB-9B74-27AF4E43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2F81-3908-4432-9113-E002BE65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7AB-0126-4032-AC6F-05AA063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CFD-5113-4D6B-8546-C627145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C52-4319-47EC-A22D-51B8C86B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0F9-0852-40A0-8395-8E2B5E99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9C2-A120-430B-A28B-5FD795A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6B1-C3BC-467A-B095-E6EA230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5F3-3785-4D8C-973D-92BED8A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A4E0-6A28-4257-B0AE-C68C64CF43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2F3-A6DF-4F43-9896-F7C77BDAA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en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 W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54 -17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and Indian War  was fought against England and the American Colonies and against the French and some Native Americans that lived in that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56 the war erupted into the world-wide conflict known as the Seven Years' War and thus came to be regarded as the North American theater of that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and Indian war was fought from 1754 to 176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the war was mainly against Great Britain and the French. The American colonies played host to thi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troops from Canada marched south; they overtook Ohio Valley. The British didn’t want the French troops there because they claimed Ohio for themsel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de By: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ggie Frank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ah Park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chael Bar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3:09:04Z</dcterms:created>
  <dc:creator>Patty</dc:creator>
  <dc:description/>
  <dc:language>en-US</dc:language>
  <cp:lastModifiedBy>Patty</cp:lastModifiedBy>
  <dcterms:modified xsi:type="dcterms:W3CDTF">2010-12-21T21:52:13Z</dcterms:modified>
  <cp:revision>3</cp:revision>
  <dc:subject/>
  <dc:title>The French  and  Indian War </dc:title>
</cp:coreProperties>
</file>